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660-7290-4AEE-BC60-158A86D6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45A-7282-471E-8CFF-A31F1FB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466-E52D-4988-9C53-EA944DDC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036-57D1-4B78-8120-5D723BB6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03A-BF97-4038-AA4E-8DDAF5EB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458-9C19-4B7E-9C02-CFC6FD8B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903-B723-43CE-B96F-5E02A710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D11-85AA-4F7D-899C-E4C9D6B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6E4-36C9-4226-B9BA-3165AC27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8C8-1534-4971-A1E3-A6D179F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5AE-E55F-4AB0-BFE2-E2D92E68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120-9FFC-4F37-ABB4-EF89185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D2A-4803-49ED-944F-6106E05D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7 What’s the highest mountain in the wor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 A      Grammar Focus-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3581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key sentences in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key knowledge in Secti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ings using compar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371600" y="838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ammar Focu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702320"/>
        </p:xfrm>
        <a:graphic>
          <a:graphicData uri="http://schemas.openxmlformats.org/drawingml/2006/table">
            <a:tbl>
              <a:tblPr/>
              <a:tblGrid>
                <a:gridCol w="3747960"/>
                <a:gridCol w="44816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eep it the Caspian Se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1,025 meters de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is the longest river in the worl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ile is the longest river in the worl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know that China is one of the oldest countries in the worl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, I did. I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much older than the U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the longest river in China?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Yangtze Riv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822240" y="32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960" y="45720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Oval 7"/>
          <p:cNvSpPr/>
          <p:nvPr/>
        </p:nvSpPr>
        <p:spPr>
          <a:xfrm>
            <a:off x="685800" y="990720"/>
            <a:ext cx="7621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153640" cy="3736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752480" y="7621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blanks with the correct forms of the words in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4100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040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410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743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9528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0384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08660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080" y="-54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640" y="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b    Write two comparisons about two   topics.    Write true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c  Write five questions using comparisons. Then ask your partner you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219320" y="1066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4572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Homework 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066680" y="23623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a survey about your favorit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 an article using comparison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ew  the new words in Section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2:07:58Z</dcterms:created>
  <dc:creator>Administrator</dc:creator>
  <dc:description/>
  <dc:language>en-US</dc:language>
  <cp:lastModifiedBy/>
  <dcterms:modified xsi:type="dcterms:W3CDTF">2015-04-06T09:16:2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